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C07-6C64-4455-A794-A48DD51C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B26-996E-437D-BF0E-18B484B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D54-15E7-458C-8CCD-82FFAE4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507-CDBA-4C4D-8AF7-37BBE7D4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17B-F4F1-4CF9-9CB0-315064D2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961-566C-40F5-B1FA-F7CD4C2D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B29-E78E-47F8-8D61-ED266B0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FF8-D68C-4480-9194-57D0C724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B0E-ACF9-44D8-9AF5-0CFFBD1B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1DF-5051-4081-AEB7-23AAB45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CAD-5285-493B-A14E-B655CB7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20A-5381-41A6-BA04-890F998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B24C-FE0C-4120-A8E6-AE03C4AD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4320" y="914040"/>
            <a:ext cx="6264360" cy="1165320"/>
          </a:xfrm>
          <a:prstGeom prst="rect">
            <a:avLst/>
          </a:prstGeom>
          <a:solidFill>
            <a:srgbClr val="ffff99"/>
          </a:solidFill>
          <a:ln w="3168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Elevator Mode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Simo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yn Ch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Ch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k J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90720" y="2362320"/>
            <a:ext cx="7670520" cy="2328840"/>
            <a:chOff x="990720" y="2362320"/>
            <a:chExt cx="7670520" cy="2328840"/>
          </a:xfrm>
        </p:grpSpPr>
        <p:grpSp>
          <p:nvGrpSpPr>
            <p:cNvPr id="45" name=""/>
            <p:cNvGrpSpPr/>
            <p:nvPr/>
          </p:nvGrpSpPr>
          <p:grpSpPr>
            <a:xfrm>
              <a:off x="990720" y="2362320"/>
              <a:ext cx="7162200" cy="2328840"/>
              <a:chOff x="990720" y="2362320"/>
              <a:chExt cx="7162200" cy="232884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rcRect l="34003" t="67413" r="34003" b="0"/>
              <a:stretch/>
            </p:blipFill>
            <p:spPr>
              <a:xfrm>
                <a:off x="4609080" y="2425680"/>
                <a:ext cx="1790640" cy="22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rcRect l="67339" t="67413" r="0" b="0"/>
              <a:stretch/>
            </p:blipFill>
            <p:spPr>
              <a:xfrm>
                <a:off x="6325200" y="2425680"/>
                <a:ext cx="1827720" cy="22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3"/>
              <a:srcRect l="0" t="66499" r="68668" b="0"/>
              <a:stretch/>
            </p:blipFill>
            <p:spPr>
              <a:xfrm>
                <a:off x="2818440" y="2362320"/>
                <a:ext cx="1753200" cy="23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4"/>
              <a:srcRect l="0" t="0" r="68668" b="67413"/>
              <a:stretch/>
            </p:blipFill>
            <p:spPr>
              <a:xfrm>
                <a:off x="990720" y="2425680"/>
                <a:ext cx="1827720" cy="2265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"/>
            <p:cNvSpPr/>
            <p:nvPr/>
          </p:nvSpPr>
          <p:spPr>
            <a:xfrm>
              <a:off x="7213680" y="2590920"/>
              <a:ext cx="1447560" cy="609480"/>
            </a:xfrm>
            <a:prstGeom prst="wedgeEllipseCallout">
              <a:avLst>
                <a:gd name="adj1" fmla="val -50875"/>
                <a:gd name="adj2" fmla="val 825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h crystal-balls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371600" y="38088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Decision Models – Spring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705720" y="4084560"/>
            <a:ext cx="2286000" cy="2011320"/>
            <a:chOff x="6705720" y="4084560"/>
            <a:chExt cx="2286000" cy="2011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705720" y="4313160"/>
              <a:ext cx="17827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229600" y="4084560"/>
              <a:ext cx="762120" cy="6858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Managerial Problem Defini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we wait so long for the elevator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Use simulation to optimize Stern’s elevators and minimize wait-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Formul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148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wait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wait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vs.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loo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45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Solution Methodology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s queue arrivals and queue lengths on each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s the entrance and departure of each person by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tor logic (direction of movement) is dependant on location of ‘hall cal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of time are broken into 6-second “time sl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run for 1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using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4 previously mentioned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interarrival times follows an exponenti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0" y="3645000"/>
            <a:ext cx="175248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The Data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as taken during peak traffic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mp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rrival times for each floor in each elevator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exit points of elevator pass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between floors: 6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nd unloading time of passengers: 6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reated a distribution of interarrival times for each entry-exit combination.  (e.g., Front bank, entry 1, exit 4 = 40 second interarrival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143000"/>
            <a:ext cx="1249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Model Scenarios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752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1 has one express eleva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8954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1 travels floors 6-11 only. Bank2 travels floors 1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409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xpress elev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omes positions on same floor vs. distributed ho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 m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3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886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3429000" cy="9907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me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752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895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3962520"/>
            <a:ext cx="4419720" cy="838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5181480"/>
            <a:ext cx="4419720" cy="838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Simul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895480"/>
            <a:ext cx="36576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09680"/>
          <a:ext cx="8305920" cy="3733920"/>
        </p:xfrm>
        <a:graphic>
          <a:graphicData uri="http://schemas.openxmlformats.org/drawingml/2006/table">
            <a:tbl>
              <a:tblPr/>
              <a:tblGrid>
                <a:gridCol w="1660680"/>
                <a:gridCol w="1660320"/>
                <a:gridCol w="1663920"/>
                <a:gridCol w="1660320"/>
                <a:gridCol w="166068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egate Waiting Time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aiting Time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loor Wait (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Ut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44-0.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6-0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0.42-0.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os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1-0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380880" y="1690560"/>
            <a:ext cx="42674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100 trial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Conclusion &amp; Recommendation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termined that the ‘Last Year’ scenario minimizes aggregate wai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urther optimized this scenario by adding distributed home posi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4936" r="0" b="10476"/>
          <a:stretch/>
        </p:blipFill>
        <p:spPr>
          <a:xfrm>
            <a:off x="5715000" y="3733920"/>
            <a:ext cx="2990880" cy="281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4245120"/>
            <a:ext cx="510552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returning to last year’s elevator formations with distributed hom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20:31:08Z</dcterms:created>
  <dc:creator>lluser</dc:creator>
  <dc:description/>
  <dc:language>en-US</dc:language>
  <cp:lastModifiedBy>Erik Simonsen</cp:lastModifiedBy>
  <dcterms:modified xsi:type="dcterms:W3CDTF">2005-05-02T11:27:31Z</dcterms:modified>
  <cp:revision>34</cp:revision>
  <dc:subject/>
  <dc:title>Model Scenarios</dc:title>
</cp:coreProperties>
</file>